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BA40-3EA4-47CB-BDC8-DDFDF84D3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standard extensions to the web-browser D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standard extensions to the web-browser D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standard extensions to the web-browser D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868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280" y="-27000"/>
            <a:ext cx="80010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868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280" y="-27000"/>
            <a:ext cx="80010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90792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00280" y="3240"/>
            <a:ext cx="8380080" cy="7617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edialab.di.unipi.it/test/ajax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016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JAX Overview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iuseppe Attard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Università di Pis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jax Application Framework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81532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JAX Alternativ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r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media Flas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 plug-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for almost every 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Web Start/Apple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 runtime preinstall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 .NET, One Touch Deploy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verlig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 preinstalled plug-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Fram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on a pag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iframe id="buffer" style="visibility:hidden; display: none; height: 1px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oad=“some action"&gt;&lt;/iframe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it from a URL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 href="date" id="display" target="buffer"&gt;Load me&lt;/a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l=document.getElementById('display'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f=window.frames['buffer'].document.body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f.innerHTML != '') l.innerHTML=f.inner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JAX Limitat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held device browsers provide limited support for Ajax technolo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mplementing AJAX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mplement AJAX we need to answer three ques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riggers the AJAX reques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a JavaScript event (onblur, onclick, etc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server process that handles the AJAX request and issues the respons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kind of URL (use a Service Locato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rocesses the response from the server (what is the callback method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JavaScript function that gets the response and manipulates the DOM, based on the text retur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XmlHttpRequest Object (XHR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eart of AJA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implemented in IE in 1997 as part of the new DHTML stand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 comes in one of two properti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XML – Returns a DOM document (can use functions such as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ElementById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Text – A text string (can be HTML, or even JavaScript c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1960"/>
            <a:ext cx="845820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XHR: Creating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8580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unction getXMLHTTPRequest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var xhr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f (window.XMLHttpRequest) { </a:t>
            </a:r>
            <a:r>
              <a:rPr b="1" lang="en-US" sz="2000" spc="-1" strike="noStrike">
                <a:solidFill>
                  <a:srgbClr val="ff0000"/>
                </a:solidFill>
                <a:latin typeface="Lucida Sans"/>
              </a:rPr>
              <a:t>// most modern web brow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xhr = new XMLHttpReques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} else if (window.ActiveXObject) { </a:t>
            </a:r>
            <a:r>
              <a:rPr b="1" lang="en-US" sz="2000" spc="-1" strike="noStrike">
                <a:solidFill>
                  <a:srgbClr val="ff0000"/>
                </a:solidFill>
                <a:latin typeface="Lucida Sans"/>
              </a:rPr>
              <a:t>// Internet Explo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xhr = new ActiveXObject("Microsoft.XMLHTTP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} </a:t>
            </a:r>
            <a:r>
              <a:rPr b="1" lang="en-US" sz="2000" spc="-1" strike="noStrike">
                <a:solidFill>
                  <a:srgbClr val="ff0000"/>
                </a:solidFill>
                <a:latin typeface="Lucida Sans"/>
              </a:rPr>
              <a:t>// else stone age web brow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turn xh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est 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2000" spc="-1" strike="noStrike" u="sng">
                <a:solidFill>
                  <a:srgbClr val="ff0033"/>
                </a:solidFill>
                <a:uFillTx/>
                <a:latin typeface="Lucida Sans"/>
                <a:hlinkClick r:id="rId1"/>
              </a:rPr>
              <a:t>http://medialab.di.unipi.it/test/aja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XHR: Simple RPC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function rpc(url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var args = rpc.arguments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var uri = url + '?'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f (args != null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for (var i = 1; i &lt; args.length; i++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f (i &gt; 1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uri += '&amp;'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uri += "arg" + i + '=' + escape(args[i]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var x = new getXMLHttpRequest(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x.open("GET", uri, false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x.send(null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f (x.status != 20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return nul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var res = x.responseTex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delete x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return res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XHR: Sending the Reques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1676520" y="3352680"/>
            <a:ext cx="457200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09480" y="1676520"/>
            <a:ext cx="83059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unction sendRequest(url, params, callBack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r req = new XMLHttpReques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q.onreadystatechang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unction() { callBack(req);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q.open(“POST”, url, tr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q.setRequestHeader("Content-Type"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"application/x-www-form-urlencoded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q.send(param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8"/>
          <p:cNvGrpSpPr/>
          <p:nvPr/>
        </p:nvGrpSpPr>
        <p:grpSpPr>
          <a:xfrm>
            <a:off x="4428720" y="3581280"/>
            <a:ext cx="3649320" cy="2135880"/>
            <a:chOff x="4428720" y="3581280"/>
            <a:chExt cx="3649320" cy="2135880"/>
          </a:xfrm>
        </p:grpSpPr>
        <p:sp>
          <p:nvSpPr>
            <p:cNvPr id="134" name="Line 5"/>
            <p:cNvSpPr/>
            <p:nvPr/>
          </p:nvSpPr>
          <p:spPr>
            <a:xfrm flipH="1" flipV="1">
              <a:off x="4428720" y="3581280"/>
              <a:ext cx="2438280" cy="1752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6"/>
            <p:cNvSpPr/>
            <p:nvPr/>
          </p:nvSpPr>
          <p:spPr>
            <a:xfrm>
              <a:off x="5419440" y="5257440"/>
              <a:ext cx="26586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6868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ue = asynchrono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Rounded Rectangular Callout 1"/>
          <p:cNvSpPr/>
          <p:nvPr/>
        </p:nvSpPr>
        <p:spPr>
          <a:xfrm>
            <a:off x="5943600" y="2209680"/>
            <a:ext cx="1828800" cy="533520"/>
          </a:xfrm>
          <a:prstGeom prst="wedgeRoundRectCallout">
            <a:avLst>
              <a:gd name="adj1" fmla="val -64328"/>
              <a:gd name="adj2" fmla="val 54662"/>
              <a:gd name="adj3" fmla="val 16667"/>
            </a:avLst>
          </a:prstGeom>
          <a:solidFill>
            <a:srgbClr val="cce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00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XHR: Using a callback handler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62120" y="1467000"/>
            <a:ext cx="81532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ar READY_STATE_UNINITIALIZED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ar READY_STATE_LOADING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ar READY_STATE_LOADED =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ar READY_STATE_INTERACTIVE = 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ar READY_STATE_COMPLETE = 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unction onReadyStateChange(req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r ready = req.readySta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r data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(ready == READY_STATE_COMPLET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ta = req.response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ta = "loading ...[" + ready + "]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// ... do something with the data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JAX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74280" y="1218960"/>
            <a:ext cx="80010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nchronous JavaScript And X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y acronym coined by Jesse James Garrett of Adaptive Path  (February 200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ly a set of techniques used as far back as 199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ame into vogue with new browsers supporting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mlHttpRequest(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roadband conne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ller Apps: Gmail and Google Ma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andling the Respons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4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 can be one of the follow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ted data (XML, other custom forma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MLHttpRequest.response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uples the server from presentation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perform XSLT transformation on returned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MLHttpRequest.responseT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 generates HTML, script “injects” HTML vi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nerHT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erver is now concerned with pres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MLHttpRequest.responseT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val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avaScript comm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, our server code is concerned with pres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JAX Concer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Origin Poli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er compati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ck butt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JavaScript is turned off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ame Origin Polic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Origin Resource Sha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HTTP head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-Control-Allow-Orig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ON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JSON data containing a &lt;script&gt; element which when loaded performs callback from a different dom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ockets (HTML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SONP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440" y="1066320"/>
            <a:ext cx="8381880" cy="546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page contai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script type="application/javascript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c="http://s.com/Users/1234?callback=parseResponse"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script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rver at the specified URL returns co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Response({"Name": "Foo", "Id": 1234, "Rank": 7}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"Name": "Foo", "Id": 1234, "Rank": 7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JSON data for the original requ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rowser load the script and runs it, i.e. invokes parseResponse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ounded Rectangular Callout 3"/>
          <p:cNvSpPr/>
          <p:nvPr/>
        </p:nvSpPr>
        <p:spPr>
          <a:xfrm>
            <a:off x="5181480" y="765000"/>
            <a:ext cx="3733920" cy="1063800"/>
          </a:xfrm>
          <a:prstGeom prst="wedgeRoundRectCallout">
            <a:avLst>
              <a:gd name="adj1" fmla="val -34884"/>
              <a:gd name="adj2" fmla="val 69546"/>
              <a:gd name="adj3" fmla="val 16667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ntion: tell the server to send back code to be used for callback to do parse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ebSocke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providing full-duplex communication channels over a single TCP conn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refix ws:// or wss:/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d in HTML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JAX and the Back Butt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ge usability iss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ing to the previous state may not be possible when a page is updated dynamical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bookmark on a particular page st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JAX Librari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Qu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iptaculo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hoo! UI Libr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W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 .NET AJA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J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erver Side Framework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WR (Jav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y on Rails (Rub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fony2, Laravel (PH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irect Web Remot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757080" y="1752480"/>
            <a:ext cx="8616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me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term for web application model in which a long-held HTTP request allows a server to push data to a brows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istent conn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den iFr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HttpRequ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8340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3564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oogle Map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440" y="1698120"/>
            <a:ext cx="4071960" cy="4589640"/>
          </a:xfrm>
          <a:prstGeom prst="rect">
            <a:avLst/>
          </a:prstGeom>
          <a:noFill/>
          <a:ln w="0">
            <a:noFill/>
          </a:ln>
        </p:spPr>
        <p:txBody>
          <a:bodyPr lIns="92160" rIns="35640" tIns="46080" bIns="46080" anchor="t">
            <a:normAutofit/>
          </a:bodyPr>
          <a:p>
            <a:pPr marL="268200" indent="-268200">
              <a:spcBef>
                <a:spcPts val="700"/>
              </a:spcBef>
              <a:buClr>
                <a:srgbClr val="009900"/>
              </a:buClr>
              <a:buSzPct val="138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 content refresh and manipulation without page refres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700"/>
              </a:spcBef>
              <a:buClr>
                <a:srgbClr val="009900"/>
              </a:buClr>
              <a:buSzPct val="138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I for easy integration with other data 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940280" y="2054160"/>
            <a:ext cx="3757680" cy="3805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95716" presetSubtype="425682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0" presetSubtype="276117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0" presetSubtype="276117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ersistent Connec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648400" cy="35146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838080" y="560556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 1.0: Connection: keep-alive (&lt; 5-15 se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rcRect l="0" t="17952" r="0" b="2734"/>
          <a:stretch/>
        </p:blipFill>
        <p:spPr>
          <a:xfrm>
            <a:off x="1447920" y="1143000"/>
            <a:ext cx="7543800" cy="5486400"/>
          </a:xfrm>
          <a:prstGeom prst="rect">
            <a:avLst/>
          </a:prstGeom>
          <a:ln w="0">
            <a:noFill/>
          </a:ln>
        </p:spPr>
      </p:pic>
      <p:sp>
        <p:nvSpPr>
          <p:cNvPr id="164" name="Title 1"/>
          <p:cNvSpPr/>
          <p:nvPr/>
        </p:nvSpPr>
        <p:spPr>
          <a:xfrm>
            <a:off x="685800" y="3240"/>
            <a:ext cx="84693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IA with Aj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410080" y="1143000"/>
            <a:ext cx="3733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Elemen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ro footprint ap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plug-ins or admin rights nee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verages Web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 user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Script powe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made sec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a little work, can communicate and combine data from Web services anywhere in the wor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with pre-built widgets, frameworks, IDEs, and Web service sta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s us new Web components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711360" y="1143000"/>
            <a:ext cx="4470120" cy="5334120"/>
          </a:xfrm>
          <a:prstGeom prst="rect">
            <a:avLst/>
          </a:prstGeom>
          <a:ln w="0">
            <a:noFill/>
          </a:ln>
        </p:spPr>
      </p:pic>
      <p:sp>
        <p:nvSpPr>
          <p:cNvPr id="167" name="Title 1"/>
          <p:cNvSpPr/>
          <p:nvPr/>
        </p:nvSpPr>
        <p:spPr>
          <a:xfrm>
            <a:off x="674640" y="0"/>
            <a:ext cx="84693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jax, Client/SOA, and Mash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Ajax for Software Composition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69" name="Picture 5" descr="web20components_big"/>
          <p:cNvPicPr/>
          <p:nvPr/>
        </p:nvPicPr>
        <p:blipFill>
          <a:blip r:embed="rId1"/>
          <a:stretch/>
        </p:blipFill>
        <p:spPr>
          <a:xfrm>
            <a:off x="1752480" y="1143000"/>
            <a:ext cx="5864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56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3564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lickr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440" y="1698120"/>
            <a:ext cx="327492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35640" tIns="46080" bIns="46080" anchor="t">
            <a:normAutofit/>
          </a:bodyPr>
          <a:p>
            <a:pPr marL="330120" indent="-330120">
              <a:spcBef>
                <a:spcPts val="700"/>
              </a:spcBef>
              <a:buClr>
                <a:srgbClr val="009900"/>
              </a:buClr>
              <a:buSzPct val="138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AJAX “photostream” slidesh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buClr>
                <a:srgbClr val="009900"/>
              </a:buClr>
              <a:buSzPct val="138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-driven tag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buClr>
                <a:srgbClr val="009900"/>
              </a:buClr>
              <a:buSzPct val="138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comments and permalink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buClr>
                <a:srgbClr val="009900"/>
              </a:buClr>
              <a:buSzPct val="138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SS fee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4179960" y="1898640"/>
            <a:ext cx="4408560" cy="3897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95716" presetSubtype="275995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0" presetSubtype="275930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0" presetSubtype="275930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0" presetSubtype="275930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0" presetSubtype="275930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jax Requiremen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TML capable brows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, CSS, X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HR support across all brows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band conne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AX-based JavaScript can take considerable bandwidth to down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ain features of AJAX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eb page hosts entire JavaScript progra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I is manipulated programmatically and in real-time by changing the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ocument Object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eb page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sn’t reloaded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ess completely new functionality is nee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is accessed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 the backgr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synchronously) by the browser via Web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, JSON, or anything HTTP can trans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jax Mode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ajax-fig1_small"/>
          <p:cNvPicPr/>
          <p:nvPr/>
        </p:nvPicPr>
        <p:blipFill>
          <a:blip r:embed="rId1"/>
          <a:stretch/>
        </p:blipFill>
        <p:spPr>
          <a:xfrm>
            <a:off x="838080" y="1835280"/>
            <a:ext cx="8305920" cy="4032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669960" y="6172200"/>
            <a:ext cx="61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Garrett(20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jax Asynchronous Mode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jax-fig2"/>
          <p:cNvPicPr/>
          <p:nvPr/>
        </p:nvPicPr>
        <p:blipFill>
          <a:blip r:embed="rId1"/>
          <a:stretch/>
        </p:blipFill>
        <p:spPr>
          <a:xfrm>
            <a:off x="762120" y="167652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914400" y="6095880"/>
            <a:ext cx="61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Garrett(20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Resul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ure browser software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can become Rich Interactive Application (RI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eb becomes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a true software plat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An open softwar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has no own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vendor controlled, based on neutral, open Web stand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A significant challenge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browser client suddenly becomes quite comple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18:23:33Z</dcterms:created>
  <dc:creator>Dion Hinchcliffe (SoI)</dc:creator>
  <dc:description/>
  <dc:language>en-US</dc:language>
  <cp:lastModifiedBy>GIUSEPPE ATTARDI</cp:lastModifiedBy>
  <dcterms:modified xsi:type="dcterms:W3CDTF">2017-05-05T11:36:16Z</dcterms:modified>
  <cp:revision>136</cp:revision>
  <dc:subject/>
  <dc:title>Real-World Ajax Design Patterns Survey</dc:title>
</cp:coreProperties>
</file>